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D990-4B22-45D9-9B16-67903AEC4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2031-D13D-446F-8834-F924BBFB6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09B6-EC49-4FDE-A575-8B99A3032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4714-395B-43D0-A158-DCCCAC8D9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CEBC-C71F-4E4B-BAE4-F7C82B634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DAC1-51F1-4FB1-88FE-8F0AC4D82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F7BE-F5A8-4976-80E9-582AD93C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FCF3-F38B-4B22-8E8A-4C67CA9C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130A-DCDE-4385-A276-E02D07A4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5ADD-A62E-4ECF-8A0C-774AF64D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70E5-8C26-461F-9433-D9CE25A4C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8904-1E1C-4074-B5A9-D0DCA950F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1C0-AD90-4FF6-A3EB-EC649F63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066-E4B4-425C-AC81-D0E27C59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1CE-57DA-4F91-9F2A-68A28188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FDE-3858-4460-97A1-D8880BC5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29D-A778-44EA-8D34-92282611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D48-D2C1-41BC-B4BD-E20C2E62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7DF-B6C8-4383-BE14-8449E652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832-B0E1-419C-8AE1-C267A839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B03-88D1-4013-823C-BD659A56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56D-A6EB-469B-88C6-A3458F14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B06-B760-4D16-A5BD-7E577C6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5F7-2C17-4CA3-91EE-6B88D642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943E-E22E-465F-BA4D-CD8AEDCBB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F9D7-100A-456A-B8FB-C3DB26F85B3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РАДА И ПРИМЕНА РАДИОГРАФИСАЊА У ОРАЛНОЈ ХИРУРГИЈИ 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800"/>
            <a:ext cx="86425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2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3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Принципи постављања дијагнозе Принципи асептичног рада Употреб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инструмената Основни принципи хируршког рада у устима Индикације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за примену радиографисања у оралној хирургији. Технике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Palatino Linotype"/>
              </a:rPr>
              <a:t>радиографис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арија Буб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9356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Припрема инструмената за стерилизацију врши се на следе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нач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тални инструменти се после употребе одлажу у одговарајуће посуде и потапају у дезинфицијенс (1-3% асепсол, страминол), 60 мин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Затим се перу топлом текућом водом и четком ради уклањања органског материјала, бришу, проверава се њихова исправност и одлажу се у металне кутије до стерил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ируршки мантили, компресе и друго рубље се машински перу и пеглају, а затим се одлажу у добоше са двоструким рупичастим зидовима у којима се врши стери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A2BB-8C04-41A8-AFAA-1DEE28C3AC8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 оралнохируршкој пракси се најчешће примењују следеће методе стерилиз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-стерилизација сувим загрејаним ваздухом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(на160ºС у трајању од 2 сата и на180ºС у трајању од 1 сат). Сувиим загрејаним ваздухом се стерилишу метални предмети и посу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стерилизација воденом паром под притиском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на 128ºС , притисак 253,3 кРа, 30 минута или на 134ºС, притисак 303,9 кРа, 20 минута). На овај начин се стерилише хируршко рубље, газ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ируршке рукавице су фабрички стерилисане и упаковане у стерилном паковању и служе за једнократну употре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F4C7-F3E0-4E00-B453-2ACE7F89E5D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7680" y="150480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Припрема лекара,асистента и иснструментарке подразумев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постављање капе на главу, маске преко носа и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хируршко прање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облачење стерилног хируршког мант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навлачење стерилних хируршких рука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ање руку треба да сведе на минимум број микроорганизама на кожи. Спроводи се истискивањем антисептичког раствора на длан једне руке, и систематичним прањем четком од врхова пристију једне и друге руке до лактова. Када се сапуница спере текућом водом од врхова прстију ка лактовима, руке се још једном оперу антисептичким раствором и осуше стерилном компресом. Цео поступак траје 5-6 мин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0" y="6424560"/>
            <a:ext cx="4059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7CD9-768B-474D-9FC6-3D7FD373F03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Припрема операцијског поља подразуме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неколико дана пре интервенције уклонити каменац, меке наслаге, конкременте, извадити гангренозне зубе, санирати инфламацију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пре интервенције кожу у периоралном пределу пребрисати антиептичким растворима (повидон-јодид 10%, асепсол 1%), око уснене шупљине и носа ка перифер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усна шупљина се припрема брисањем зуба, гингиве, слузокоже уста и језика истим раств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EF46-F53D-430F-B43B-BA88E3480BE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Употреба инструмен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Комплет инструмената за амбулантне оралнохируршке интервенције на хируршком сточићу требало би да садр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ируршки ножић (скалпел) са држа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аспатори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каз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Екар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струменти за рад у кости (сврдла, длета, остеотоми, клашта за ко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ирете и екскав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струменти за вађење зуба (клешта и полуг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бор за шив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стали инстр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B8A9-4213-43BB-840C-08B4C4D8E81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хируршког рад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Планирање мукозног реж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При раду на меким ткивима усне шупљине у циљу пластике мекоткивних структура, пре израде протетских надокнада у неким случајевима је потребно планирати мукозни режа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Одизање мукозног режња изводи се тако што се иницијалним резом пресеца само слузокожа са евентуално танким слојем подслузокожног ткива. Одвајање слузокоже од субмукозног ткива најбоље је вршити тзв. Препарир маказиц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87E3-F8DF-41D0-82A1-E80D2D523D6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хируршког рад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04800"/>
            <a:ext cx="84247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Palatino Linotype"/>
              </a:rPr>
              <a:t>Планирање мукопериосталног реж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-када се интервенција планира на коштаном ткиву оперативни приступ се обезбеђује одизањем мукопериосталног реж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нцизију планирати тако да се не повреде постојећи неуроваскуларни еле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нцизију извести оштрим скалпелом уз чврст притисак у једном поте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ко постојећих зуба инцизију планирати дуж гингивалног сул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Режањ планирати да у антеро-постериорном смеру буде шири од будућег де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Режањ треба да буде широк да обезбеди адекватну видљивост и прист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6) При планирању водити рачуна о прокрвљености режња ради адекватне исхране и зарастања (база режња би требало да буде ши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0EB1-4433-4422-AB9B-BE90483E0E3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Palatino Linotype"/>
              </a:rPr>
              <a:t>Основни принципи хируршког рада у устим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 највећем броју случајева да би се приступило патолошкој лезији која треба да се уклони потребно је уклонити мањи или већи сегмент кости. Рад у кости подразуме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варање приступа (патолошкој лезији, импактираном зубу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варање</a:t>
            </a:r>
            <a:r>
              <a:rPr b="0" lang="sr-Latn-R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остора за апликацију инструмената (елеватора, клешт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варање слободног простора (према коме ће се потиснути зуб који се в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страњивање измењених делова кости (секвеста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рекције деформ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декватне обраде ране након завршене хируршке интервенције (уклањање оштрих ивица к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8866-A46E-42C1-B6AD-F25341686FA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950B-35B9-4861-AD43-5E1069A1AD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285840" y="2332080"/>
            <a:ext cx="599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исање се у оралној хирургији користи са циљем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ланирања опер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и добијања допунских података за извођење интервенције, у циљу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стављања дијагноз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у склопу оралнохируршког прегледа, као и у циљу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онтроле постигнутих терапијских резул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C:\Users\Zoran\Downloads\oralna hirurgija\slike\fr.jpg"/>
          <p:cNvPicPr/>
          <p:nvPr/>
        </p:nvPicPr>
        <p:blipFill>
          <a:blip r:embed="rId1"/>
          <a:stretch/>
        </p:blipFill>
        <p:spPr>
          <a:xfrm>
            <a:off x="6337440" y="2490840"/>
            <a:ext cx="24937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349C-F0E2-4D1E-9A3E-D5ACB5FF251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411120" y="1550880"/>
            <a:ext cx="809640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ИНТРАОРАЛНЕ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роалвеола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техника бисектрисе, феномен паралак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клузални мед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сијални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ЕКСТРАОРАЛНЕ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гиталне, фронталне и аксијал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јекције ртг лоб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нимак параназалних шупљина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C:\Users\Zoran\Documents\TATIC\TATIC ZORAN\New Folder\folik cista 6.jpg"/>
          <p:cNvPicPr/>
          <p:nvPr/>
        </p:nvPicPr>
        <p:blipFill>
          <a:blip r:embed="rId1"/>
          <a:srcRect l="35939" t="14079" r="18324" b="11118"/>
          <a:stretch/>
        </p:blipFill>
        <p:spPr>
          <a:xfrm>
            <a:off x="5599080" y="1731960"/>
            <a:ext cx="354492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C201-3C3C-48B6-B4B5-C1231A5CA8F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3560" y="1900080"/>
            <a:ext cx="814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АМО ЈЕДНА ДИЈАГНОЗА – </a:t>
            </a:r>
            <a:r>
              <a:rPr b="0" i="1" lang="sr-CS" sz="2400" spc="-1" strike="noStrike">
                <a:solidFill>
                  <a:srgbClr val="ff0000"/>
                </a:solidFill>
                <a:latin typeface="Palatino Linotype"/>
              </a:rPr>
              <a:t>ИСП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Анамнез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– скуп података добијених од пацијента који су у вези са тегобама због којих се он јавља лек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и преглед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екстраорални преглед, интраорални преглед , допунски прегледи и сним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B79A-D4D7-450C-B17D-9B15F085F72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469800" y="1539720"/>
            <a:ext cx="8217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СПЕЦИЈАЛНЕ ТЕХНИКЕ РАДИОГРАФ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коришћени метод специјалне технике радиографисања назива се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ртопантомограф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– ортоп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C:\Users\Zoran\Downloads\oralna hirurgija\slike\images6.jpg"/>
          <p:cNvPicPr/>
          <p:nvPr/>
        </p:nvPicPr>
        <p:blipFill>
          <a:blip r:embed="rId1"/>
          <a:stretch/>
        </p:blipFill>
        <p:spPr>
          <a:xfrm>
            <a:off x="1776240" y="3147840"/>
            <a:ext cx="558180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1A47-859C-4625-A527-4156F2A1370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469800" y="1539720"/>
            <a:ext cx="821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СПЕЦИЈАЛНЕ ТЕХНИКЕ РАДИОГРАФ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6083280" y="2833560"/>
            <a:ext cx="2651040" cy="247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289080" y="2944800"/>
            <a:ext cx="2823840" cy="218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3610080" y="2778120"/>
            <a:ext cx="1881000" cy="150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3718080" y="4684680"/>
            <a:ext cx="15984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4179-6411-4C7C-8317-97C4CC965BB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е радиографиса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469800" y="1539720"/>
            <a:ext cx="821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СПЕЦИЈАЛНЕ ТЕХНИКЕ РАДИОГРАФИС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CBCT-3rd-molar.jpg"/>
          <p:cNvPicPr/>
          <p:nvPr/>
        </p:nvPicPr>
        <p:blipFill>
          <a:blip r:embed="rId1"/>
          <a:stretch/>
        </p:blipFill>
        <p:spPr>
          <a:xfrm>
            <a:off x="2565360" y="2081160"/>
            <a:ext cx="4732200" cy="43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F52-4AC3-4D33-90CE-FCD78A6077A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" name="Picture 7" descr="C:\Users\Zoran\Downloads\oralna hirurgija\slike\imagescc.jpg"/>
          <p:cNvPicPr/>
          <p:nvPr/>
        </p:nvPicPr>
        <p:blipFill>
          <a:blip r:embed="rId1"/>
          <a:stretch/>
        </p:blipFill>
        <p:spPr>
          <a:xfrm>
            <a:off x="1071720" y="2414520"/>
            <a:ext cx="3941640" cy="2627280"/>
          </a:xfrm>
          <a:prstGeom prst="rect">
            <a:avLst/>
          </a:prstGeom>
          <a:ln w="0">
            <a:noFill/>
          </a:ln>
        </p:spPr>
      </p:pic>
      <p:cxnSp>
        <p:nvCxnSpPr>
          <p:cNvPr id="188" name="Straight Arrow Connector 8"/>
          <p:cNvCxnSpPr/>
          <p:nvPr/>
        </p:nvCxnSpPr>
        <p:spPr>
          <a:xfrm flipV="1">
            <a:off x="3321000" y="1696680"/>
            <a:ext cx="169632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9" name="TextBox 9"/>
          <p:cNvSpPr/>
          <p:nvPr/>
        </p:nvSpPr>
        <p:spPr>
          <a:xfrm>
            <a:off x="5126040" y="156384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Зубна глеђ – најјача с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11"/>
          <p:cNvCxnSpPr/>
          <p:nvPr/>
        </p:nvCxnSpPr>
        <p:spPr>
          <a:xfrm flipV="1">
            <a:off x="3247560" y="2453760"/>
            <a:ext cx="2467800" cy="494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91" name="Straight Arrow Connector 13"/>
          <p:cNvCxnSpPr/>
          <p:nvPr/>
        </p:nvCxnSpPr>
        <p:spPr>
          <a:xfrm flipV="1">
            <a:off x="2598480" y="2453400"/>
            <a:ext cx="3129480" cy="878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2" name="TextBox 14"/>
          <p:cNvSpPr/>
          <p:nvPr/>
        </p:nvSpPr>
        <p:spPr>
          <a:xfrm>
            <a:off x="5799240" y="228600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Дентин и ц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6"/>
          <p:cNvCxnSpPr/>
          <p:nvPr/>
        </p:nvCxnSpPr>
        <p:spPr>
          <a:xfrm>
            <a:off x="2840040" y="3187800"/>
            <a:ext cx="2851920" cy="110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18"/>
          <p:cNvCxnSpPr/>
          <p:nvPr/>
        </p:nvCxnSpPr>
        <p:spPr>
          <a:xfrm>
            <a:off x="3236760" y="3814920"/>
            <a:ext cx="2407680" cy="46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TextBox 20"/>
          <p:cNvSpPr/>
          <p:nvPr/>
        </p:nvSpPr>
        <p:spPr>
          <a:xfrm>
            <a:off x="5811840" y="412740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Cavum dentis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- свет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FE43-0203-468B-AAA3-E36FBF5A969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0" name="Picture 8" descr="C:\Users\Zoran\Downloads\oralna hirurgija\slike\fr.jpg"/>
          <p:cNvPicPr/>
          <p:nvPr/>
        </p:nvPicPr>
        <p:blipFill>
          <a:blip r:embed="rId1"/>
          <a:srcRect l="0" t="-4689" r="44740" b="0"/>
          <a:stretch/>
        </p:blipFill>
        <p:spPr>
          <a:xfrm>
            <a:off x="638280" y="1492200"/>
            <a:ext cx="2608200" cy="385128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9"/>
          <p:cNvCxnSpPr/>
          <p:nvPr/>
        </p:nvCxnSpPr>
        <p:spPr>
          <a:xfrm flipV="1">
            <a:off x="2249640" y="2272680"/>
            <a:ext cx="185328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TextBox 10"/>
          <p:cNvSpPr/>
          <p:nvPr/>
        </p:nvSpPr>
        <p:spPr>
          <a:xfrm>
            <a:off x="4235400" y="2070000"/>
            <a:ext cx="49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Око зуба се налази танка зона рендген светлине - периодонтални про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12"/>
          <p:cNvCxnSpPr/>
          <p:nvPr/>
        </p:nvCxnSpPr>
        <p:spPr>
          <a:xfrm flipV="1">
            <a:off x="2285640" y="3452400"/>
            <a:ext cx="1708920" cy="37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4" name="TextBox 13"/>
          <p:cNvSpPr/>
          <p:nvPr/>
        </p:nvSpPr>
        <p:spPr>
          <a:xfrm>
            <a:off x="4138560" y="3308400"/>
            <a:ext cx="48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а периферији се налази танка зона рендген сенке компакте која облаже алвеоларну чашицу –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amina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465360" y="4764240"/>
            <a:ext cx="538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Једнолична ширина овог простора, као и не прекинута , јасно ограничена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amina dura</a:t>
            </a:r>
            <a:r>
              <a:rPr b="0" i="1" lang="sr-CS" sz="1800" spc="-1" strike="noStrike">
                <a:solidFill>
                  <a:srgbClr val="000000"/>
                </a:solidFill>
                <a:latin typeface="Palatino Linotype"/>
              </a:rPr>
              <a:t> – нема патолошких промена у овом сег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6D1B-135C-4786-B787-F525F503380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10" descr="C:\Users\Zoran\Downloads\oralna hirurgija\slike\images77.jpg"/>
          <p:cNvPicPr/>
          <p:nvPr/>
        </p:nvPicPr>
        <p:blipFill>
          <a:blip r:embed="rId1"/>
          <a:stretch/>
        </p:blipFill>
        <p:spPr>
          <a:xfrm>
            <a:off x="372960" y="2119320"/>
            <a:ext cx="2273400" cy="3049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:\Users\Zoran\Downloads\oralna hirurgija\slike\p.bmp"/>
          <p:cNvPicPr/>
          <p:nvPr/>
        </p:nvPicPr>
        <p:blipFill>
          <a:blip r:embed="rId2"/>
          <a:stretch/>
        </p:blipFill>
        <p:spPr>
          <a:xfrm>
            <a:off x="2900520" y="2459160"/>
            <a:ext cx="3367080" cy="2232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C:\Users\Zoran\Downloads\oralna hirurgija\slike\pg.jpg"/>
          <p:cNvPicPr/>
          <p:nvPr/>
        </p:nvPicPr>
        <p:blipFill>
          <a:blip r:embed="rId3"/>
          <a:stretch/>
        </p:blipFill>
        <p:spPr>
          <a:xfrm>
            <a:off x="6523200" y="2160720"/>
            <a:ext cx="236052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E4B8-5269-4329-8638-63F3A43647B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радиографисања у оралној хирур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7" name="Picture 8" descr="C:\Users\Zoran\Pictures\imagesCAQO43CF.jpg"/>
          <p:cNvPicPr/>
          <p:nvPr/>
        </p:nvPicPr>
        <p:blipFill>
          <a:blip r:embed="rId1"/>
          <a:stretch/>
        </p:blipFill>
        <p:spPr>
          <a:xfrm>
            <a:off x="608040" y="2230560"/>
            <a:ext cx="2038320" cy="2247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C:\Users\Zoran\Pictures\imagesCAT2I49G.jpg"/>
          <p:cNvPicPr/>
          <p:nvPr/>
        </p:nvPicPr>
        <p:blipFill>
          <a:blip r:embed="rId2"/>
          <a:stretch/>
        </p:blipFill>
        <p:spPr>
          <a:xfrm>
            <a:off x="6464160" y="2133720"/>
            <a:ext cx="1668600" cy="2590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C:\Users\Zoran\Pictures\X-20101124110626672.jpg"/>
          <p:cNvPicPr/>
          <p:nvPr/>
        </p:nvPicPr>
        <p:blipFill>
          <a:blip r:embed="rId3"/>
          <a:stretch/>
        </p:blipFill>
        <p:spPr>
          <a:xfrm>
            <a:off x="3297240" y="1824120"/>
            <a:ext cx="25351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404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C779-D937-4FBC-B6ED-986DE6B4C4D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44600" y="1146240"/>
            <a:ext cx="81579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АНАМН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енер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Главне тегобе ( зашто се пацијент јавио на преглед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адашња болест ( детаљно се обрађују подаци из главне тегоб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171fc14b49a79ea979710de5b3402b30_XL.jpg"/>
          <p:cNvPicPr/>
          <p:nvPr/>
        </p:nvPicPr>
        <p:blipFill>
          <a:blip r:embed="rId1"/>
          <a:stretch/>
        </p:blipFill>
        <p:spPr>
          <a:xfrm>
            <a:off x="2646360" y="4160880"/>
            <a:ext cx="40338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3496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БОЛ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најчешћи разлог посете стоматолог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 се бол први пут јав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континуиран или са прекид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рактер бола (оштар, туп, севајући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се јавља спонтано или на надра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траје само док и надражај или и после надра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невна динамика бола (да ли се појачава ноћ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изација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FDA2-3CFF-43A5-9A5E-C8D6C4D4219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olor-de-muelas-insoportable.jpg"/>
          <p:cNvPicPr/>
          <p:nvPr/>
        </p:nvPicPr>
        <p:blipFill>
          <a:blip r:embed="rId1"/>
          <a:stretch/>
        </p:blipFill>
        <p:spPr>
          <a:xfrm>
            <a:off x="3490920" y="4923000"/>
            <a:ext cx="2065320" cy="140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mal-di-denti-e1482837979697.jpg"/>
          <p:cNvPicPr/>
          <p:nvPr/>
        </p:nvPicPr>
        <p:blipFill>
          <a:blip r:embed="rId2"/>
          <a:stretch/>
        </p:blipFill>
        <p:spPr>
          <a:xfrm>
            <a:off x="5556240" y="4917960"/>
            <a:ext cx="2084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83D2-CDF7-4A3F-A4A0-2E1E4325869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82760" y="1397160"/>
            <a:ext cx="82166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О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 се оток појав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мењао своје дим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квих је карактеристика (конзистенције, боје, температуре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шти симптоми (повишена температура, језа, малаксалост, губитак апет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и симптоми ( ограничено отварање уста, отежано гутањ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:\Users\Zoran\Downloads\oralna hirurgija\slike\download.jpg"/>
          <p:cNvPicPr/>
          <p:nvPr/>
        </p:nvPicPr>
        <p:blipFill>
          <a:blip r:embed="rId1"/>
          <a:srcRect l="35121" t="1936" r="3272" b="3171"/>
          <a:stretch/>
        </p:blipFill>
        <p:spPr>
          <a:xfrm>
            <a:off x="2133720" y="4199040"/>
            <a:ext cx="1538280" cy="197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advanced-abscess-300x272.jpg"/>
          <p:cNvPicPr/>
          <p:nvPr/>
        </p:nvPicPr>
        <p:blipFill>
          <a:blip r:embed="rId2"/>
          <a:stretch/>
        </p:blipFill>
        <p:spPr>
          <a:xfrm>
            <a:off x="4627440" y="4184640"/>
            <a:ext cx="22449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6C15-4442-499D-9EDC-C85B3A22FE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93560" y="1558800"/>
            <a:ext cx="77774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КЛИНИЧКИ ПРЕГЛ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нспекција</a:t>
            </a:r>
            <a:r>
              <a:rPr b="0" lang="sr-Latn-R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екстраорална и интраорал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алпац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отоци, пљ. жлезде, л.жлезде, ТМЗ и Валеове 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куси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вертикална и хоризонтал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ондирањ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(зуби, пародонтални џепови, екс. ране, фистуле, ороантралне комуникације и изводни канали пљ. жлезд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спитивање сензибил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EXTRACCION.jpg"/>
          <p:cNvPicPr/>
          <p:nvPr/>
        </p:nvPicPr>
        <p:blipFill>
          <a:blip r:embed="rId1"/>
          <a:stretch/>
        </p:blipFill>
        <p:spPr>
          <a:xfrm>
            <a:off x="5708520" y="4815000"/>
            <a:ext cx="23367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97F3-99CC-49B1-9430-4760D05AB17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44600" y="1720800"/>
            <a:ext cx="82548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Диференцијална дијагноза обољења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улпе и пародонц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aries profu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serosa part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serosa to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purulenta part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acuta purulenta to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ecrosis et gangraena pul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ulpitis chro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C:\Users\Zoran\Downloads\oralna hirurgija\slike\images 55.jpg"/>
          <p:cNvPicPr/>
          <p:nvPr/>
        </p:nvPicPr>
        <p:blipFill>
          <a:blip r:embed="rId1"/>
          <a:stretch/>
        </p:blipFill>
        <p:spPr>
          <a:xfrm>
            <a:off x="4272120" y="3143160"/>
            <a:ext cx="45939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нципи постављања дијагно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EDB-63A4-4678-BB64-5B730AC832C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9800" y="1671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cut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одомцијум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ос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бпериос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бмук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chronica – granu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bscessus dentoalveolaris ac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bscessus parodon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icoron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Users\Zoran\Downloads\oralna hirurgija\slike\imageslll.jpg"/>
          <p:cNvPicPr/>
          <p:nvPr/>
        </p:nvPicPr>
        <p:blipFill>
          <a:blip r:embed="rId1"/>
          <a:stretch/>
        </p:blipFill>
        <p:spPr>
          <a:xfrm>
            <a:off x="5411880" y="1473120"/>
            <a:ext cx="2701800" cy="225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Users\Zoran\Downloads\oralna hirurgija\slike\images rt.jpg"/>
          <p:cNvPicPr/>
          <p:nvPr/>
        </p:nvPicPr>
        <p:blipFill>
          <a:blip r:embed="rId2"/>
          <a:srcRect l="0" t="2946" r="21747" b="-130"/>
          <a:stretch/>
        </p:blipFill>
        <p:spPr>
          <a:xfrm>
            <a:off x="5818320" y="3873600"/>
            <a:ext cx="1773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ринципи асептичног рада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Хируршке интервенције у усној дупљи се не могу изводити у строго асептичним условима, међутим могућност контаминације операцијске ране нестерилним инструментима или нестерилним материјалом се обавезно мора спреч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Под асептичним поступком се подразумева спречавање контаминације ране у току операције. Ово се пости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меном стерилних инструмената и применом стерилног матер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говарајућом припремом лекара за хируршку интервен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премом операцијског по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C7E2-063A-4B60-9AC3-9935548D212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5:59:14Z</dcterms:modified>
  <cp:revision>985</cp:revision>
  <dc:subject/>
  <dc:title>NAZIV PREDAVANJA</dc:title>
</cp:coreProperties>
</file>